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A0F-D4A1-4FFC-91B3-6459E044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A8F-D8B2-40E3-A36E-16EE6D0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A69-F69E-4A04-997C-E1E81B57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BC3-D1BA-4B31-83DE-CF2B2BC7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58E-E2D9-49F8-ACCF-C8BCEB9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367-5693-4985-B6C9-F4CD0DD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BB1-9224-48D7-A39A-BF674E62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B7E-8378-4C73-8A22-B6DBFAF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FDF-73E3-4384-B061-ABBDE17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74F-F062-4030-A0F7-FDE647E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4A8-B54E-4993-9C18-5D9509F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891-8ACE-40EC-A58B-634AAF04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A9B0-3243-422B-97FA-E9F6FDF3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What affect does gender have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36188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Have you ever wondered why some kinds of music are more popular than others? Have you wondered if gender has and affect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 think the guys will like faster beats rather than slower beats, and the girls will like maybe in between fast speed and slow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rst you have 5 boys and 5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ext you have them type in a song that they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Then you let them listen to songs that pandora find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nally you compare observations and see what girls like more and what boys like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re was more variety in girls and in guys. Most of the people that I tested, the music they like had to do with the vocal harm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 girls liked more of electronica influences, rather than the boys. Electronica influences are the sounds that people put on a song that make it have an echo or other sou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n the boys and girls there wasn’t much of a difference, but there was many that had to do with how the singer’s voice sounded like i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My hypothesis was incorrect, because I thought there would be a difference between boy and girls. There was many of the same things of each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56:20Z</dcterms:created>
  <dc:creator>USD376</dc:creator>
  <dc:description/>
  <dc:language>en-US</dc:language>
  <cp:lastModifiedBy>STERLING  USD376</cp:lastModifiedBy>
  <dcterms:modified xsi:type="dcterms:W3CDTF">2011-03-10T15:37:17Z</dcterms:modified>
  <cp:revision>12</cp:revision>
  <dc:subject/>
  <dc:title>Problem</dc:title>
</cp:coreProperties>
</file>